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38F-57DF-48D8-A0B1-027694D2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3B2-769D-4025-8C6C-EB030323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0F8-9AF9-4C9A-990D-88E240C3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2F0-4F64-4B07-BCA1-B85E57E9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7F789-6C02-49F1-8354-8D26AFDB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E11DD-2A87-44E3-B919-2D76A77B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A197D-BE28-4A80-9D88-ED480107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7F968-EAEA-4FE0-A0E6-0BF62F73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79EB2-B47D-46EB-972E-3722523D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6948F-D8CC-42A0-B63E-61CE2A63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FA7A2-5792-4269-A857-E78F1242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EDD-AE3F-4D4C-9B15-6018753A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BD9B5-5C7F-4B05-9497-405B41D3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71C86-E11B-469E-B8A9-F65DD352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69575-98CB-4FF1-9651-D9C5C48D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F19DA-DE37-40C7-915B-C01D8A0E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F5D05-D5CD-45A0-9EFE-2730227F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44F-5B9F-46CE-A942-86928A0B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525-6CA4-44FD-8C55-7A5318C2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8C1-47BF-4D8D-87F6-5E834D85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61A-27CD-4C8F-8A94-F8BB7067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E352-A33B-4928-98EF-7BE29C3A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920-13C6-43B8-A610-4A3730FC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65E-CD07-4425-957E-5C61B30E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DCFA-5247-4A8C-8404-7CB1C752B7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2C16-17F5-4E8F-BEA7-0B220C5C19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pener: Day 3 MSA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d the circumfer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23960" y="133344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590920" y="1752480"/>
            <a:ext cx="3657600" cy="3353040"/>
            <a:chOff x="2590920" y="1752480"/>
            <a:chExt cx="3657600" cy="3353040"/>
          </a:xfrm>
        </p:grpSpPr>
        <p:sp>
          <p:nvSpPr>
            <p:cNvPr id="124" name=""/>
            <p:cNvSpPr/>
            <p:nvPr/>
          </p:nvSpPr>
          <p:spPr>
            <a:xfrm>
              <a:off x="2590920" y="1752480"/>
              <a:ext cx="3657600" cy="3353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33920" y="2674800"/>
              <a:ext cx="1447920" cy="13716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200760" y="2141640"/>
              <a:ext cx="76176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75440" y="201132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3c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496040" y="290340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94320" y="33526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.25c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053720" y="551664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ner Circle:  ____________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uter Circle:  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d Problem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eteor crater has a diameter of about 1175m. Find the circumference of the crater to the nearest me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248520" y="3124080"/>
            <a:ext cx="269712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W pg. 153 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6: Geomet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Students will identify and describe the parts of a ci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Circl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the set of all points in a plane that are the same distance from a point called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en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adiu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r) is the distance from the center to any point on the circl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Diamete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d) is the distance across the circle through its center. (diameter is twice the radi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5638680"/>
            <a:ext cx="75960" cy="76320"/>
          </a:xfrm>
          <a:prstGeom prst="ellipse">
            <a:avLst/>
          </a:prstGeom>
          <a:solidFill>
            <a:srgbClr val="33cccc">
              <a:alpha val="31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276720" y="4800600"/>
            <a:ext cx="1904760" cy="1676520"/>
            <a:chOff x="3276720" y="4800600"/>
            <a:chExt cx="1904760" cy="1676520"/>
          </a:xfrm>
        </p:grpSpPr>
        <p:sp>
          <p:nvSpPr>
            <p:cNvPr id="90" name=""/>
            <p:cNvSpPr/>
            <p:nvPr/>
          </p:nvSpPr>
          <p:spPr>
            <a:xfrm>
              <a:off x="3276720" y="4800600"/>
              <a:ext cx="190476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267080" y="5181480"/>
              <a:ext cx="762120" cy="457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178160" y="4800600"/>
            <a:ext cx="76320" cy="16765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ll which is shown, the radius or the diameter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236232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480060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487692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28800" y="2362320"/>
            <a:ext cx="914400" cy="914400"/>
            <a:chOff x="1828800" y="2362320"/>
            <a:chExt cx="914400" cy="914400"/>
          </a:xfrm>
        </p:grpSpPr>
        <p:sp>
          <p:nvSpPr>
            <p:cNvPr id="98" name=""/>
            <p:cNvSpPr/>
            <p:nvPr/>
          </p:nvSpPr>
          <p:spPr>
            <a:xfrm>
              <a:off x="1828800" y="2362320"/>
              <a:ext cx="914400" cy="914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6000" y="236232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6172200" y="281952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057040" y="495252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248520" y="5105160"/>
            <a:ext cx="838080" cy="43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275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77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27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775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275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775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diameter, given the radiu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r = 6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r = 15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r = 3.8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r = 27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914400"/>
            <a:ext cx="37339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radius, given the diame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d = 24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d = 9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d = 36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d = 15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4560" y="304920"/>
            <a:ext cx="80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(C): the distance around a circl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= pi ● diamet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= 2 ● pi ● radi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80880"/>
            <a:ext cx="86104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ircumfer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nd the circumference of the cir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1.) d = 12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 = circum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2) =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.14(12)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7.68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2.) r = 8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= circum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(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(8)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.28(8)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.24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d the circumfer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r = 5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d = 13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d = 20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r = 7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d the circumfer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4267080"/>
            <a:ext cx="1425600" cy="138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1408320" cy="137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95280" y="1752480"/>
            <a:ext cx="1527120" cy="15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2565360" y="1371600"/>
          <a:ext cx="91440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65360" y="1371600"/>
                    <a:ext cx="914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19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deanne elizabeth mcgrath</cp:lastModifiedBy>
  <dcterms:modified xsi:type="dcterms:W3CDTF">2011-02-14T13:36:04Z</dcterms:modified>
  <cp:revision>26</cp:revision>
  <dc:subject/>
  <dc:title>Unit 6: Geometry</dc:title>
</cp:coreProperties>
</file>